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063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8A2-9F42-4921-A343-14C8BE2D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388792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720" y="6180120"/>
            <a:ext cx="388792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0A0-9BCC-4AE9-8952-F9E960BD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720" y="618012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2760" y="618012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670-A9FC-41E7-869F-F70DB967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6120" y="249516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1520" y="249516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720" y="618012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6120" y="618012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1520" y="618012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3EB-086C-4E0F-8825-7D1A3FF7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720" y="2495160"/>
            <a:ext cx="38879280" cy="70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76"/>
              </a:spcBef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09A-D2CF-4F51-B19A-2AFE8B05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388792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6CC-74DA-42D4-8A90-632C5DE4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9CB-C2D0-4002-B90B-719E1EAB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9F0-8B7D-4D32-B1B3-1FAD6782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720" y="428400"/>
            <a:ext cx="388792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76"/>
              </a:spcBef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94D-4DA9-4CE8-8992-173AF4C2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720" y="618012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A2D-F466-41AE-989E-AAA13AC1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2760" y="618012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755-10EC-4F4E-9046-E9CF9477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720" y="6180120"/>
            <a:ext cx="388792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19BA-852C-4942-94A0-DE6B8560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720" y="428400"/>
            <a:ext cx="3887928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en-US" sz="1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720" y="2495160"/>
            <a:ext cx="388792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50000"/>
          </a:bodyPr>
          <a:p>
            <a:pPr marL="576000" indent="-576000">
              <a:spcBef>
                <a:spcPts val="2676"/>
              </a:spcBef>
              <a:buClr>
                <a:srgbClr val="000000"/>
              </a:buClr>
              <a:buFont typeface="Arial"/>
              <a:buChar char="•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1" marL="1249920" indent="-480240">
              <a:spcBef>
                <a:spcPts val="2676"/>
              </a:spcBef>
              <a:buClr>
                <a:srgbClr val="000000"/>
              </a:buClr>
              <a:buFont typeface="Arial"/>
              <a:buChar char="–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2" marL="1923840" indent="-384120">
              <a:spcBef>
                <a:spcPts val="2676"/>
              </a:spcBef>
              <a:buClr>
                <a:srgbClr val="000000"/>
              </a:buClr>
              <a:buFont typeface="Arial"/>
              <a:buChar char="•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3" marL="2693880" indent="-384120">
              <a:spcBef>
                <a:spcPts val="2676"/>
              </a:spcBef>
              <a:buClr>
                <a:srgbClr val="000000"/>
              </a:buClr>
              <a:buFont typeface="Arial"/>
              <a:buChar char="–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4" marL="3463920" indent="-384120">
              <a:spcBef>
                <a:spcPts val="2676"/>
              </a:spcBef>
              <a:buClr>
                <a:srgbClr val="000000"/>
              </a:buClr>
              <a:buFont typeface="Arial"/>
              <a:buChar char="»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5" marL="3463920" indent="-384120">
              <a:spcBef>
                <a:spcPts val="2676"/>
              </a:spcBef>
              <a:buClr>
                <a:srgbClr val="000000"/>
              </a:buClr>
              <a:buFont typeface="Arial"/>
              <a:buChar char="»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6" marL="3463920" indent="-384120">
              <a:spcBef>
                <a:spcPts val="2676"/>
              </a:spcBef>
              <a:buClr>
                <a:srgbClr val="000000"/>
              </a:buClr>
              <a:buFont typeface="Arial"/>
              <a:buChar char="»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09000"/>
            <a:ext cx="10078920" cy="57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0720" y="9909000"/>
            <a:ext cx="13679280" cy="57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0720" y="9909000"/>
            <a:ext cx="10078920" cy="57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fld id="{32D72A1F-5E64-476A-ABEA-EF069DFD538B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"/>
          <p:cNvPicPr/>
          <p:nvPr/>
        </p:nvPicPr>
        <p:blipFill>
          <a:blip r:embed="rId1"/>
          <a:stretch/>
        </p:blipFill>
        <p:spPr>
          <a:xfrm>
            <a:off x="0" y="1440"/>
            <a:ext cx="43200720" cy="10688760"/>
          </a:xfrm>
          <a:prstGeom prst="rect">
            <a:avLst/>
          </a:prstGeom>
          <a:ln w="0">
            <a:noFill/>
          </a:ln>
        </p:spPr>
      </p:pic>
      <p:sp>
        <p:nvSpPr>
          <p:cNvPr id="42" name="テキスト ボックス 4"/>
          <p:cNvSpPr/>
          <p:nvPr/>
        </p:nvSpPr>
        <p:spPr>
          <a:xfrm>
            <a:off x="11752560" y="343080"/>
            <a:ext cx="93596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Green tea  ice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57"/>
          <p:cNvSpPr/>
          <p:nvPr/>
        </p:nvSpPr>
        <p:spPr>
          <a:xfrm>
            <a:off x="10741680" y="7542360"/>
            <a:ext cx="61243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78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お茶の風味たっぷりで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78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美味しい！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8"/>
          <p:cNvSpPr/>
          <p:nvPr/>
        </p:nvSpPr>
        <p:spPr>
          <a:xfrm>
            <a:off x="19483200" y="7351560"/>
            <a:ext cx="61480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en-US" sz="21100" spc="-1" strike="noStrike">
                <a:solidFill>
                  <a:srgbClr val="ff0000"/>
                </a:solidFill>
                <a:latin typeface="小塚ゴシック Pro B"/>
                <a:ea typeface="小塚ゴシック Pro B"/>
              </a:rPr>
              <a:t>450</a:t>
            </a:r>
            <a:r>
              <a:rPr b="0" lang="en-US" sz="98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 </a:t>
            </a:r>
            <a:r>
              <a:rPr b="0" lang="ja-JP" sz="9800" spc="-1" strike="noStrike">
                <a:solidFill>
                  <a:srgbClr val="000000"/>
                </a:solidFill>
                <a:latin typeface="小塚ゴシック Pro B"/>
                <a:ea typeface="小塚ゴシック Pro B"/>
              </a:rPr>
              <a:t>円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6"/>
          <p:cNvSpPr/>
          <p:nvPr/>
        </p:nvSpPr>
        <p:spPr>
          <a:xfrm>
            <a:off x="37388880" y="9729720"/>
            <a:ext cx="5486400" cy="609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テキスト ボックス 7"/>
          <p:cNvSpPr/>
          <p:nvPr/>
        </p:nvSpPr>
        <p:spPr>
          <a:xfrm>
            <a:off x="40078800" y="9834480"/>
            <a:ext cx="33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2500" spc="-1" strike="noStrike">
                <a:solidFill>
                  <a:srgbClr val="ffffff"/>
                </a:solidFill>
                <a:latin typeface="小塚ゴシック Pro B"/>
                <a:ea typeface="小塚ゴシック Pro B"/>
              </a:rPr>
              <a:t>抹茶かき氷アイス白玉もあります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7:53:09Z</dcterms:created>
  <dc:creator>seisaku</dc:creator>
  <dc:description/>
  <dc:language>en-US</dc:language>
  <cp:lastModifiedBy>VISION</cp:lastModifiedBy>
  <dcterms:modified xsi:type="dcterms:W3CDTF">2015-09-24T10:12:13Z</dcterms:modified>
  <cp:revision>34</cp:revision>
  <dc:subject/>
  <dc:title>スライド 1</dc:title>
</cp:coreProperties>
</file>